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4BE-1AEC-4E1C-9AE0-456BA9EA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235-82B6-4A67-A533-890364F3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52A-FB54-4C95-A218-3BAF04E7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0C6-E77D-4E84-A705-16864952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AF2-46E4-414F-A951-8D3C2DBA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0A3-949E-4241-AD1B-2ABBE459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471-2566-43B6-B914-42641337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F2D-7BA5-4AAD-831B-5C69B694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851-1B20-4691-8662-466D0D5D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D0D-0ABE-4E63-B101-AEAB8ECE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BA8-8D62-4C51-9D1E-F42C921C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C8C-DAB6-4283-BDFB-A8F2C4CE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B8A9-8029-4E69-A2BB-137D76201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raham Lincol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 was born in 1809 died in 18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 was killed by John Wilkes Bo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l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59436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became a survey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732 died in 17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called the Father of 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41960" y="4572000"/>
            <a:ext cx="390204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903840"/>
            <a:ext cx="2031840" cy="295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81080" y="457200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y are alik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both born in FEBR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4800600"/>
            <a:ext cx="41148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086600" y="2209680"/>
            <a:ext cx="2057400" cy="4648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343400" y="4800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2286000"/>
            <a:ext cx="27432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05:40Z</dcterms:created>
  <dc:creator>smuser</dc:creator>
  <dc:description/>
  <dc:language>en-US</dc:language>
  <cp:lastModifiedBy>smuser</cp:lastModifiedBy>
  <dcterms:modified xsi:type="dcterms:W3CDTF">2010-02-02T20:08:58Z</dcterms:modified>
  <cp:revision>5</cp:revision>
  <dc:subject/>
  <dc:title>Comparing presidents </dc:title>
</cp:coreProperties>
</file>